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C6F-B4EC-404A-A718-17D41B40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3B6-0890-4ECC-86EC-7AF3BBD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1DD-7AFD-4FA4-9882-727F4845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B14-3BA1-4135-87D9-13CD0CF4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7626-30AA-42BD-877B-51C53643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E2D2-18CF-49BF-87E3-59AEFF01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49D-C347-4A12-AB6F-9557C7CF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292F-4A5F-40DC-85E2-0229FD2B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3152-3A98-40A3-94CD-9B92E05C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AF9A-7426-4D73-BE02-9D7CAE6A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986B-FCC7-4191-93B4-E7A57AAD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215-C4FF-4AA1-A07E-DC4419C5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0D93-5B49-417D-B4E1-EEF06F0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6C50-3AE4-43C9-848F-8C0EDD8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4825-10B1-45F1-B484-BC35453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4AB6-4219-4FD6-8168-D1A43FFC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A0F1-7E91-4400-8C07-B50E3008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D08-A2F2-4B4F-91B7-6E597196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433-7737-4256-A8AD-0FA7BC11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638-1EEE-4F16-B6A2-473B67A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343-A794-4AE8-9B82-2B80C796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0C4-C7EB-45AC-98CF-3840ADA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12B-1AEE-4299-8DBD-20996A2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A3A-B681-4A96-8E41-286C5597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2A68-8E3B-4C58-A82C-EA8E0C1D59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1A6-4DC5-44D7-9F65-67FF718545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nglish-Sept. 10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i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lly’s t-shirt has the latin phrase cave canem (beware of the dog) and pictures of these three well known dogs a german shepherd an english sheepdog and a beag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ffaw:laugh::_______:t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:Century::cent: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nish 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2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ion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the questions fully, when finish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up pronoun pa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3:09:11Z</dcterms:created>
  <dc:creator>VMS</dc:creator>
  <dc:description/>
  <dc:language>en-US</dc:language>
  <cp:lastModifiedBy>VMS</cp:lastModifiedBy>
  <dcterms:modified xsi:type="dcterms:W3CDTF">2009-09-10T14:38:41Z</dcterms:modified>
  <cp:revision>3</cp:revision>
  <dc:subject/>
  <dc:title>English-Sept. 10</dc:title>
</cp:coreProperties>
</file>